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253-0B4C-45B7-BBC4-B5529BED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FDE-2F0B-470E-8829-C9F20FF3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D60-EC2A-4A53-A840-C08F9941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FC8-471F-4898-A01E-F7AE354B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5E8E-A71C-44BD-9273-C7A0B34B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0C09-D0FD-4A65-8BC3-F8E63789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3CD3-315C-47A7-9916-9DF037BB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5088-7BDB-4A30-B039-D60844BC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10C0-AF2B-49B2-9249-AEC29A29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2580-FE9B-4403-9003-22DFFE35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2802-2940-45EF-B992-2F9DD1FC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0DC-E638-4990-9EA3-70551413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CF13-70E7-437A-9AD8-747706C0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6839-0DC7-46EB-91F4-C498AE32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5A9A-C16D-4022-98D3-4D8DDBA4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2755-607B-4FA0-96AA-3A38C6C9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8395-598B-4FB8-9DEE-BC986B31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F5ACB-648F-453B-8061-C07091F0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4345-5D24-433D-84BF-8695E103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9BD05-93C4-4E3B-9119-2D1C1FC9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F107-7F4B-4429-9DFC-E84A4B1D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CE05-8A98-4756-9A01-5CCA8EE7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EB8-62CB-4E4C-A4DE-216690C4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097C-F3B4-45A7-8AB8-75546B82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8940-5239-4232-8164-2B998F2E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D62E-306F-4056-9D84-79FCDD84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8EF80-338D-4AFA-AB3D-707497FA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92B7A-B662-4178-AA77-834E63BD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B6817-8636-4F09-B748-E14B72CE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D55F2-05A8-42C5-AFED-8CF6E0BC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04B8A-F29D-42E2-B2C2-A4180C91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8902-685C-4A97-9D4C-13DEE7AE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5EB8-38A4-4B62-AE28-A1A6D31E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19C-E193-40FF-A9BF-60589854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D4A17-E461-48C6-96FE-73B984EC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AB5E8-BF03-4319-B3ED-1CBA49D5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A9169-5AA0-4C2B-A43F-00DAC7BB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F198-0D20-47F3-86E8-B3CEE62F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4048-F420-4FDE-ADED-C12B6914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97E84-34CA-48D0-9610-B5EFCC61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B3AF-82E6-4A30-9F42-1A111452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4A16-4A3F-4809-9D53-16F5D842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72896-9D20-405D-A598-172310B7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5C0A6-70A2-4EE7-902D-B51434EF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774-E5E5-46EC-BC78-7E5E1511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28ACA-1D94-49FC-A235-1316B319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E1917-A295-46B7-A5BC-DB69DF2B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C53EF-CE9C-4AA5-8FA1-F41BCFBC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15188-49B0-4F59-A41A-77D90B4D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1F87E-8D88-4E76-941D-7A04DD44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3FBA-806F-4D62-8B66-1CA33133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19E5F-EA36-4B56-900B-BD948766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67FB4-5265-4020-833B-85D5D7F5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18752-1C80-4EF3-A723-56B95741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C3380-742C-4ACB-8A58-B1C3FB79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EC7-E69C-4B27-AEA0-ABB335AE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B3E67-9930-468E-9232-DB1C995C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BC588-1CBF-4670-9FB0-8DD1465B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410F0-1426-4C66-9E29-A07A8A09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80243-465C-494B-8993-6A3101EF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44EA1-0BAF-4453-9E5E-B1A4C3B3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6B7AB-812C-4683-9FC3-66A8EBCE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8241C-7BE2-4A05-99C4-0F40D246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DB46D-FE88-4340-90EA-1B601E84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72258-4B06-42DC-91D8-091E5C42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25536-4FFE-4492-B033-22EFC2E7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CB0-16F1-4D76-8921-508D5C0B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6E3E5-6E67-4133-904C-465C845D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2BE74-CCBF-44A1-9A15-EA90C920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437BD-7143-4ED4-BE2D-D4D8B731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097-1D13-4DF9-9849-8E10A7FE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B29-4B05-4548-9546-D7E64CCE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4022-5BF4-4B1B-BFBB-1D885817FC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ev300-096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E4AC-B801-425E-9463-092318A72B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6"/>
          <p:cNvSpPr/>
          <p:nvPr/>
        </p:nvSpPr>
        <p:spPr>
          <a:xfrm>
            <a:off x="2945520" y="24019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6" descr="949522_143908547111_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B265-1660-4867-BBEB-A19267B448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"/>
          <p:cNvPicPr/>
          <p:nvPr/>
        </p:nvPicPr>
        <p:blipFill>
          <a:blip r:embed="rId2"/>
          <a:srcRect l="0" t="6362" r="0" b="0"/>
          <a:stretch/>
        </p:blipFill>
        <p:spPr>
          <a:xfrm>
            <a:off x="0" y="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7997-935A-4C2D-A369-BECF180A88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6" descr="Untitled-1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4CB8-535D-463F-9773-BFB9079249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1BC4-8C78-4969-A1D8-C084ABEDF0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D67D-988A-4D9F-9344-D8FC2D713E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2828520" y="22129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684360" y="2819520"/>
            <a:ext cx="748800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1022400" y="2913120"/>
            <a:ext cx="46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微软雅黑"/>
              </a:rPr>
              <a:t>NEVER SAY NEV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7236000" y="2978280"/>
            <a:ext cx="1444320" cy="680760"/>
          </a:xfrm>
          <a:prstGeom prst="rect">
            <a:avLst/>
          </a:prstGeom>
          <a:ln w="0">
            <a:noFill/>
          </a:ln>
        </p:spPr>
      </p:pic>
      <p:sp>
        <p:nvSpPr>
          <p:cNvPr id="255" name="等腰三角形 11"/>
          <p:cNvSpPr/>
          <p:nvPr/>
        </p:nvSpPr>
        <p:spPr>
          <a:xfrm rot="10800000">
            <a:off x="7816680" y="2924280"/>
            <a:ext cx="35568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文本框 2" descr=""/>
          <p:cNvPicPr/>
          <p:nvPr/>
        </p:nvPicPr>
        <p:blipFill>
          <a:blip r:embed="rId2"/>
          <a:stretch/>
        </p:blipFill>
        <p:spPr>
          <a:xfrm>
            <a:off x="353880" y="1468440"/>
            <a:ext cx="29750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1771560" y="733320"/>
            <a:ext cx="29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直接连接符 2"/>
          <p:cNvSpPr/>
          <p:nvPr/>
        </p:nvSpPr>
        <p:spPr>
          <a:xfrm>
            <a:off x="306360" y="1521000"/>
            <a:ext cx="426564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等腰三角形 3"/>
          <p:cNvSpPr/>
          <p:nvPr/>
        </p:nvSpPr>
        <p:spPr>
          <a:xfrm rot="10800000">
            <a:off x="4271760" y="1628640"/>
            <a:ext cx="35532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3279600" y="1924200"/>
            <a:ext cx="323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3849840" y="4500720"/>
            <a:ext cx="1444320" cy="682560"/>
          </a:xfrm>
          <a:prstGeom prst="rect">
            <a:avLst/>
          </a:prstGeom>
          <a:ln w="0">
            <a:noFill/>
          </a:ln>
        </p:spPr>
      </p:pic>
      <p:pic>
        <p:nvPicPr>
          <p:cNvPr id="262" name="文本框 5" descr=""/>
          <p:cNvPicPr/>
          <p:nvPr/>
        </p:nvPicPr>
        <p:blipFill>
          <a:blip r:embed="rId2"/>
          <a:stretch/>
        </p:blipFill>
        <p:spPr>
          <a:xfrm>
            <a:off x="87480" y="522360"/>
            <a:ext cx="199224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2" descr=""/>
          <p:cNvPicPr/>
          <p:nvPr/>
        </p:nvPicPr>
        <p:blipFill>
          <a:blip r:embed="rId1"/>
          <a:stretch/>
        </p:blipFill>
        <p:spPr>
          <a:xfrm>
            <a:off x="0" y="1465200"/>
            <a:ext cx="11915640" cy="367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7639200" y="298440"/>
            <a:ext cx="1442880" cy="6825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-36360" y="2409840"/>
            <a:ext cx="446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OUT P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等腰三角形 5"/>
          <p:cNvSpPr/>
          <p:nvPr/>
        </p:nvSpPr>
        <p:spPr>
          <a:xfrm rot="5400000">
            <a:off x="55080" y="3564000"/>
            <a:ext cx="35568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7"/>
          <p:cNvSpPr/>
          <p:nvPr/>
        </p:nvSpPr>
        <p:spPr>
          <a:xfrm>
            <a:off x="395280" y="3068640"/>
            <a:ext cx="31687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宋体"/>
              </a:rPr>
              <a:t>201X P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斜纹 13"/>
          <p:cNvSpPr/>
          <p:nvPr/>
        </p:nvSpPr>
        <p:spPr>
          <a:xfrm flipH="1">
            <a:off x="6442920" y="0"/>
            <a:ext cx="2700360" cy="1851120"/>
          </a:xfrm>
          <a:custGeom>
            <a:avLst/>
            <a:gdLst/>
            <a:ahLst/>
            <a:rect l="l" t="t" r="r" b="b"/>
            <a:pathLst>
              <a:path w="2700337" h="1851025">
                <a:moveTo>
                  <a:pt x="0" y="707350"/>
                </a:moveTo>
                <a:lnTo>
                  <a:pt x="1031906" y="0"/>
                </a:lnTo>
                <a:lnTo>
                  <a:pt x="2700337" y="0"/>
                </a:lnTo>
                <a:lnTo>
                  <a:pt x="0" y="1851025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标题 1"/>
          <p:cNvSpPr/>
          <p:nvPr/>
        </p:nvSpPr>
        <p:spPr>
          <a:xfrm>
            <a:off x="0" y="411120"/>
            <a:ext cx="57243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微软雅黑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右箭头 24"/>
          <p:cNvSpPr/>
          <p:nvPr/>
        </p:nvSpPr>
        <p:spPr>
          <a:xfrm>
            <a:off x="826920" y="1347840"/>
            <a:ext cx="1944720" cy="1655640"/>
          </a:xfrm>
          <a:prstGeom prst="rightArrow">
            <a:avLst>
              <a:gd name="adj1" fmla="val 63565"/>
              <a:gd name="adj2" fmla="val 50002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右箭头 25"/>
          <p:cNvSpPr/>
          <p:nvPr/>
        </p:nvSpPr>
        <p:spPr>
          <a:xfrm>
            <a:off x="3348000" y="1347840"/>
            <a:ext cx="2160720" cy="1655640"/>
          </a:xfrm>
          <a:prstGeom prst="rightArrow">
            <a:avLst>
              <a:gd name="adj1" fmla="val 63565"/>
              <a:gd name="adj2" fmla="val 50003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右箭头 26"/>
          <p:cNvSpPr/>
          <p:nvPr/>
        </p:nvSpPr>
        <p:spPr>
          <a:xfrm>
            <a:off x="5940360" y="1347840"/>
            <a:ext cx="2087640" cy="1655640"/>
          </a:xfrm>
          <a:prstGeom prst="rightArrow">
            <a:avLst>
              <a:gd name="adj1" fmla="val 63565"/>
              <a:gd name="adj2" fmla="val 50005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右箭头 27"/>
          <p:cNvSpPr/>
          <p:nvPr/>
        </p:nvSpPr>
        <p:spPr>
          <a:xfrm rot="5400000">
            <a:off x="4068000" y="1347480"/>
            <a:ext cx="719280" cy="4319640"/>
          </a:xfrm>
          <a:prstGeom prst="rightArrow">
            <a:avLst>
              <a:gd name="adj1" fmla="val 40194"/>
              <a:gd name="adj2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5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611280" y="1725480"/>
            <a:ext cx="2089080" cy="7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3132000" y="1725480"/>
            <a:ext cx="2087640" cy="7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24"/>
          <p:cNvSpPr/>
          <p:nvPr/>
        </p:nvSpPr>
        <p:spPr>
          <a:xfrm>
            <a:off x="5759280" y="1700280"/>
            <a:ext cx="2089440" cy="7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15"/>
          <p:cNvSpPr/>
          <p:nvPr/>
        </p:nvSpPr>
        <p:spPr>
          <a:xfrm>
            <a:off x="2496240" y="4011480"/>
            <a:ext cx="37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YOUR TEXT 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 rot="2250600">
            <a:off x="7354800" y="365040"/>
            <a:ext cx="171936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斜纹 23"/>
          <p:cNvSpPr/>
          <p:nvPr/>
        </p:nvSpPr>
        <p:spPr>
          <a:xfrm flipH="1">
            <a:off x="6442920" y="0"/>
            <a:ext cx="2700360" cy="1851120"/>
          </a:xfrm>
          <a:custGeom>
            <a:avLst/>
            <a:gdLst/>
            <a:ahLst/>
            <a:rect l="l" t="t" r="r" b="b"/>
            <a:pathLst>
              <a:path w="2700337" h="1851025">
                <a:moveTo>
                  <a:pt x="0" y="707350"/>
                </a:moveTo>
                <a:lnTo>
                  <a:pt x="1031906" y="0"/>
                </a:lnTo>
                <a:lnTo>
                  <a:pt x="2700337" y="0"/>
                </a:lnTo>
                <a:lnTo>
                  <a:pt x="0" y="1851025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标题 1"/>
          <p:cNvSpPr/>
          <p:nvPr/>
        </p:nvSpPr>
        <p:spPr>
          <a:xfrm>
            <a:off x="0" y="411120"/>
            <a:ext cx="57243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微软雅黑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 rot="2250600">
            <a:off x="7354800" y="365040"/>
            <a:ext cx="1719360" cy="811440"/>
          </a:xfrm>
          <a:prstGeom prst="rect">
            <a:avLst/>
          </a:prstGeom>
          <a:ln w="0">
            <a:noFill/>
          </a:ln>
        </p:spPr>
      </p:pic>
      <p:sp>
        <p:nvSpPr>
          <p:cNvPr id="282" name="对角圆角矩形 25"/>
          <p:cNvSpPr/>
          <p:nvPr/>
        </p:nvSpPr>
        <p:spPr>
          <a:xfrm>
            <a:off x="849240" y="1833480"/>
            <a:ext cx="2305080" cy="25192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15968"/>
                </a:solidFill>
                <a:latin typeface="Calibri"/>
                <a:ea typeface="宋体"/>
              </a:rPr>
              <a:t>15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  <a:ea typeface="宋体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5968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5968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对角圆角矩形 26"/>
          <p:cNvSpPr/>
          <p:nvPr/>
        </p:nvSpPr>
        <p:spPr>
          <a:xfrm>
            <a:off x="3306600" y="1833480"/>
            <a:ext cx="2303640" cy="2519280"/>
          </a:xfrm>
          <a:prstGeom prst="pi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对角圆角矩形 27"/>
          <p:cNvSpPr/>
          <p:nvPr/>
        </p:nvSpPr>
        <p:spPr>
          <a:xfrm>
            <a:off x="5889600" y="1833480"/>
            <a:ext cx="2305080" cy="25192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35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斜纹 1"/>
          <p:cNvSpPr/>
          <p:nvPr/>
        </p:nvSpPr>
        <p:spPr>
          <a:xfrm flipH="1">
            <a:off x="6442920" y="0"/>
            <a:ext cx="2700360" cy="1851120"/>
          </a:xfrm>
          <a:custGeom>
            <a:avLst/>
            <a:gdLst/>
            <a:ahLst/>
            <a:rect l="l" t="t" r="r" b="b"/>
            <a:pathLst>
              <a:path w="2700337" h="1851025">
                <a:moveTo>
                  <a:pt x="0" y="707350"/>
                </a:moveTo>
                <a:lnTo>
                  <a:pt x="1031906" y="0"/>
                </a:lnTo>
                <a:lnTo>
                  <a:pt x="2700337" y="0"/>
                </a:lnTo>
                <a:lnTo>
                  <a:pt x="0" y="1851025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标题 1"/>
          <p:cNvSpPr/>
          <p:nvPr/>
        </p:nvSpPr>
        <p:spPr>
          <a:xfrm>
            <a:off x="0" y="411120"/>
            <a:ext cx="57243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微软雅黑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 rot="2250600">
            <a:off x="7354800" y="365040"/>
            <a:ext cx="1719360" cy="81144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4" descr=""/>
          <p:cNvPicPr/>
          <p:nvPr/>
        </p:nvPicPr>
        <p:blipFill>
          <a:blip r:embed="rId2"/>
          <a:stretch/>
        </p:blipFill>
        <p:spPr>
          <a:xfrm>
            <a:off x="1332000" y="1738440"/>
            <a:ext cx="2665440" cy="174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9" name="图片 5" descr=""/>
          <p:cNvPicPr/>
          <p:nvPr/>
        </p:nvPicPr>
        <p:blipFill>
          <a:blip r:embed="rId3"/>
          <a:stretch/>
        </p:blipFill>
        <p:spPr>
          <a:xfrm>
            <a:off x="4545000" y="1779480"/>
            <a:ext cx="2787840" cy="175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90" name="组合 6" descr=""/>
          <p:cNvPicPr/>
          <p:nvPr/>
        </p:nvPicPr>
        <p:blipFill>
          <a:blip r:embed="rId4"/>
          <a:stretch/>
        </p:blipFill>
        <p:spPr>
          <a:xfrm>
            <a:off x="1077840" y="3498840"/>
            <a:ext cx="3430800" cy="1082520"/>
          </a:xfrm>
          <a:prstGeom prst="rect">
            <a:avLst/>
          </a:prstGeom>
          <a:ln w="0">
            <a:noFill/>
          </a:ln>
        </p:spPr>
      </p:pic>
      <p:pic>
        <p:nvPicPr>
          <p:cNvPr id="291" name="组合 9" descr=""/>
          <p:cNvPicPr/>
          <p:nvPr/>
        </p:nvPicPr>
        <p:blipFill>
          <a:blip r:embed="rId5"/>
          <a:stretch/>
        </p:blipFill>
        <p:spPr>
          <a:xfrm>
            <a:off x="4317840" y="3489480"/>
            <a:ext cx="383076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2828520" y="22129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2"/>
          <p:cNvSpPr/>
          <p:nvPr/>
        </p:nvSpPr>
        <p:spPr>
          <a:xfrm>
            <a:off x="684360" y="2819520"/>
            <a:ext cx="7488000" cy="14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816480" y="295128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7236000" y="2978280"/>
            <a:ext cx="1444320" cy="680760"/>
          </a:xfrm>
          <a:prstGeom prst="rect">
            <a:avLst/>
          </a:prstGeom>
          <a:ln w="0">
            <a:noFill/>
          </a:ln>
        </p:spPr>
      </p:pic>
      <p:sp>
        <p:nvSpPr>
          <p:cNvPr id="296" name="等腰三角形 6"/>
          <p:cNvSpPr/>
          <p:nvPr/>
        </p:nvSpPr>
        <p:spPr>
          <a:xfrm rot="10800000">
            <a:off x="7816680" y="2924280"/>
            <a:ext cx="35568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7"/>
          <p:cNvSpPr/>
          <p:nvPr/>
        </p:nvSpPr>
        <p:spPr>
          <a:xfrm>
            <a:off x="684360" y="3659040"/>
            <a:ext cx="316836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宋体"/>
              </a:rPr>
              <a:t>201X BY PANGXIAOK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文本框 3" descr=""/>
          <p:cNvPicPr/>
          <p:nvPr/>
        </p:nvPicPr>
        <p:blipFill>
          <a:blip r:embed="rId2"/>
          <a:stretch/>
        </p:blipFill>
        <p:spPr>
          <a:xfrm>
            <a:off x="569880" y="1611360"/>
            <a:ext cx="297504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任意多边形 2"/>
          <p:cNvSpPr/>
          <p:nvPr/>
        </p:nvSpPr>
        <p:spPr>
          <a:xfrm>
            <a:off x="1681200" y="2855880"/>
            <a:ext cx="447480" cy="49212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3"/>
          <p:cNvSpPr/>
          <p:nvPr/>
        </p:nvSpPr>
        <p:spPr>
          <a:xfrm>
            <a:off x="2124000" y="2857680"/>
            <a:ext cx="7020000" cy="493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s://www.freeppt7.co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6"/>
          <p:cNvSpPr/>
          <p:nvPr/>
        </p:nvSpPr>
        <p:spPr>
          <a:xfrm>
            <a:off x="0" y="2282760"/>
            <a:ext cx="6985080" cy="581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est PPT templates for free down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角三角形 5"/>
          <p:cNvSpPr/>
          <p:nvPr/>
        </p:nvSpPr>
        <p:spPr>
          <a:xfrm>
            <a:off x="6983280" y="2279520"/>
            <a:ext cx="641520" cy="58428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11"/>
          <p:cNvSpPr/>
          <p:nvPr/>
        </p:nvSpPr>
        <p:spPr>
          <a:xfrm>
            <a:off x="1982880" y="2940120"/>
            <a:ext cx="51782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图片 4" descr="logo"/>
          <p:cNvPicPr/>
          <p:nvPr/>
        </p:nvPicPr>
        <p:blipFill>
          <a:blip r:embed="rId1"/>
          <a:stretch/>
        </p:blipFill>
        <p:spPr>
          <a:xfrm>
            <a:off x="2490840" y="633240"/>
            <a:ext cx="4162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9:19:46Z</dcterms:created>
  <dc:creator>Administrator</dc:creator>
  <dc:description/>
  <dc:language>en-US</dc:language>
  <cp:lastModifiedBy>kwl6163com</cp:lastModifiedBy>
  <dcterms:modified xsi:type="dcterms:W3CDTF">2018-05-21T02:30:43Z</dcterms:modified>
  <cp:revision>3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